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CD60-1A1D-45CA-990C-74F610BE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1BDA-F90F-4FFB-89D9-CFEF67BF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4A6-BCF0-444D-8B8B-E223C4214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5FA-EB33-42F8-83EB-58C7E3137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6C3-7BF5-43A1-B80B-0854B3C4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199D-BC07-46F5-BC70-F1BDB377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548-8336-4E13-B149-773AB36C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8E8-9283-4054-A76C-0BA30B21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CAE-1B05-4BD9-82F5-2AA4E9A0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4F3-B211-49AA-82D9-7BD54EE3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F96-1F42-4092-8444-AB9F04AD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72F-1920-443E-81C6-13D39F0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F62-7B37-48FD-A25B-3B9561E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242-6CBF-4405-AF10-3B71466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8B4-4221-4C04-B0B0-83FD4C40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398-1179-4FB3-9858-9EE6DDD6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488-D244-474A-8A87-75190F72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039-7A86-4910-98CC-C4EA65E2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880-C48A-41D4-B44E-5282C367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0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45080" y="4498920"/>
            <a:ext cx="17002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297400" y="4767120"/>
            <a:ext cx="19940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icrosoft Office User</cp:lastModifiedBy>
  <cp:lastPrinted>2008-03-04T19:40:59Z</cp:lastPrinted>
  <dcterms:modified xsi:type="dcterms:W3CDTF">2016-12-08T21:42:33Z</dcterms:modified>
  <cp:revision>18</cp:revision>
  <dc:subject/>
  <dc:title>TEED 521 Math &amp; Science Methods</dc:title>
</cp:coreProperties>
</file>